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929-0F4E-4060-8008-2EB7CCDB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A00-93B8-4FD8-BC35-7AD0ED6A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67B9F-1DFA-46B1-B706-42013724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181EC-F40B-4744-878C-5E33ACA9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FDB48-F9E9-4D48-A76C-9C6C83CD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DAE6D-4378-4812-BE5A-F55B599F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10273-50D2-4FC9-8922-A4B914CB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BBFB1-F81A-4EB5-85A8-ACE0119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AAC26-90D5-47DF-8873-61B3B968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280D5-0D92-49F8-A7B9-D1209404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CF3B7-A195-43C6-9142-20F5F80E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4FCF6-C9F3-4D1B-90CE-4A1A7176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051-AD1C-4F4C-A87F-279B9379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9148C-2BC4-42D4-A486-32B90EED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4F469-1210-4E4A-9EF8-CF924E24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44D72-1A86-48FF-ACC1-7C0B4E99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0DE1F-FA5E-4070-A586-E1D43D8B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E2729-4B7E-48E4-BFF7-B3DE6459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048F6-5C26-4083-85DE-AB4A7A24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7C5D9-D18E-477D-9239-8A16A3E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23BEA-355E-43BF-8EC2-70E65A00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D7070-E63E-4E48-924B-851151DC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418F5-F35A-4B42-85F2-E68185A3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9E0-4ABC-4639-AFA7-C092637C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06D1C-BFAE-4EBB-B8A7-718A6C25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78D85-BE93-4555-BD69-87CA2877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3B8EC-1CD3-4162-B95B-C5627A8D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B23AF-E25E-46EB-A188-AD8C65F8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910AA-EF32-45A1-A6DB-31A537DA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B2F0D-8E54-4D73-AA3C-C28C200C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1CC05-B974-4BDA-84D1-75535018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722C8-CA14-4FEF-9867-4CE3640E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88232-42F3-47A7-94E7-ACC0CDC4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1BACA-9769-4641-AF13-0B27406D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7552-4B7B-4F8D-8CFB-CDDE4779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4D874-ED7A-4C41-B3DC-A8644D11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2038B-7809-490F-9BFB-79E72062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C2E43-8C4A-4FF1-8BB3-42FD9A0E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8B5C4-E7DF-4997-9CA4-79761A82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14130-3F4F-4314-8812-828D32FD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F0B83-BDF4-4437-AF1E-977A9EB0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2524A-154F-40F6-AF20-91BE0D71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3DCB4-765E-4ED7-9A32-74B44B84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CA4FA-C42A-4C6B-8136-C6F8A3A2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35D1B-FADA-42A2-AC28-76009B18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F725-56D6-4544-B5C4-9495F5AE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BF60E-D33F-4EE8-BF82-D6F9979F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4E3B7-DB64-4572-949B-AE18C063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94D30-C75D-45FF-BEF3-6BEFBD92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29B6D-5657-4F21-A0C5-E1B8FEA1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5D4C3-0CC8-4E6C-AC83-EE6079D1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C6D1-BE97-4FCF-B8CD-ED15BAFD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81DD-128A-465A-A54C-8E18A1DD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AD82-5C56-46E6-AFA1-8256C00C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03F7-95A9-49C0-B935-AEFEFDC3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691B-5E21-43F6-8192-5BB99BF9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A24-A17A-4E8E-B8B1-BBFD82BC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1E2F-5757-4921-BE9F-181CF5BB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2903-36C0-45C2-A170-72C0D34E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85AB-947E-478B-912B-F6F4C2B2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91ED-21B4-45DB-A492-99E92F01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C64-4E8C-4006-AD8D-5463AABE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3BB8-B1CC-479E-A33C-EC1C2D77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0647-EF61-467D-8A7D-ED6C3D5E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B55A-9B4B-4F69-9DD5-A7B697D2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9D59-2FD9-4A2C-AA38-3B6AABE1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A8FE-FA6D-4414-9799-AFA21513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33B-B58B-41C2-AC4E-3DF52492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B89E-FF28-42A7-AD5C-76EE3BC3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2CE4-A802-4E07-A32F-EFBB7DFD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7CE8-1089-4501-8F3B-ED3E6DF4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086D-AFE1-4F56-9969-02CF88F3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8FD6-80D2-44ED-8570-DA5E560D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2371-7279-4E72-B259-672C5D1F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38D5-4C34-4CC8-8E88-FF629F6B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09FF9-ABA6-4394-9111-07549E20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27977-672A-4B4F-AA7F-C7B32C85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84BE8-4094-4DC3-90F5-AE1091D2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F21-5916-4FD6-83BF-DF48E33E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07AD-413D-4ED9-BBEE-FEA25470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1265-7A02-4D0A-AC30-CF50CDAC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6F891-CBC8-47A2-B554-237850B2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0578D-EDDE-44BE-B973-D0F27A17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A4CE1-21CA-4380-AF30-78B55A3E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7F58-2721-4F5A-B630-5B18F9AD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5D4A-1317-46B0-9957-25F0CA06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F852D-F7D4-4197-A05E-F465CEDC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51FAA-CAB0-432B-BBFB-45F93751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2DD4B-F11B-4684-AF21-F35E8530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D43-2A8C-4E64-95BC-522580C9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90864-9406-4953-917C-CEA6C641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41E9-F61F-4726-B5AF-BD9FBD11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53905-CF31-4624-B9AB-878E1667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70580-5365-4EE0-BE4F-D3183CBF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592E5-4771-4E0C-B028-E11C40B4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4AE55-680B-438A-8C8E-0F272279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A91A9-2B32-4145-A8D5-E2AA2ACC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244B8-DBC3-4748-9E0C-8700864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6C73E-B162-4E0F-86C7-675430C6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5A494-60E9-4C68-886D-E8B79074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2FE-1B45-4734-85CF-44508D59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04F40-58BA-45B4-890D-992B49E5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9FE00-9977-46ED-A7EA-2C637E9D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36A3-AF89-44AD-B5EC-3020903C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91EC3-1DE0-465E-BB30-0DB7B2F6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B3F12-A657-4849-8B20-05841FB7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B7AB-7D54-4140-B3DD-DD3EF7D0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DBBCD-8571-4790-BE5A-B2CD2168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4CDF6-2713-42F7-B519-0BC8FDE1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9693C-84AC-4BF7-ACBD-D4391210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74C1-27BE-4501-8070-1AF539FC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7A0-EECD-4C5D-82B6-A3283B17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7460D-F905-4B72-8A35-34B04271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7C95A-5F9E-454E-A8F3-FAA51251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8A87F-1FF4-4897-803E-74154B24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149FF-1C86-4793-A854-C5E4F03B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E1D65-FD17-42CA-A0EB-D00609AE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5166E-FC1C-45A7-AA3A-70060F47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12E62-CFA3-4064-BD2D-F0B1989F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EC2C7-9347-41E4-8C3E-79DAA60A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5F97D-D7A5-4F21-9FED-77270B68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664DE-806E-486A-B55D-109B43BE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26A-F615-409F-8792-1C19DF32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8F9FB-9867-46E2-9577-0515A2CC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77C4D-BFB1-488F-8C6C-3D1E9F32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DA03F-DE34-42FA-A923-13795A4D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85C1B-BC78-459C-82CC-188AD42F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BD70C-6080-4D04-B5EF-B543F5FD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BA44B-24F9-4F27-8BD0-8BC04F76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0F303-24A8-4ED0-89D9-2274ADA4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BA855-38AD-44D3-971C-224BA95C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EBA35-9C6C-420A-8AFA-B83E1115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3907E-A81A-4808-A325-EFF85746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9DE-85DE-45E5-AA37-2E30AD3B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8A3BC-00A1-4923-A730-AD5F6056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3ACCC-8D8A-4605-BCEA-1BEB7162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E0A9E-053C-47DB-9EE9-5293491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749E4-0BC1-4401-BB64-7920F71C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ED1B1-7E00-43A2-ABFD-8C059294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7DA60-6BE6-484D-98DD-7FA16E10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4F5E1-4215-47BD-A524-74D5E460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9BE86-1FE2-4877-906C-C17E7141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ADAA5-1727-44BE-A04F-CCCDF409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CFCE7-2BC3-4FE7-B983-D140BE99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268F-E57E-4292-BA8D-4A9DF59CD37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3D5-BFBF-4250-88BD-501EF8A943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7AF6-508E-4EE5-B5B7-202F0485122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F8BC-5D3F-4ECE-8ACB-5DDB9C71EB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A4BB-DA43-4D07-8A46-502F5495632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75B9-5894-47EC-BA2A-AF8E40D514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1CF3-2D29-4102-BC63-2960653B40E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9209-43D0-41B1-88FC-F48686F485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" name="Picture 18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A838-9609-4E70-AC4F-B07F57A385A7}" type="datetime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05892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FC16-D120-49B7-B274-3F938875725D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5874-3020-45E7-9572-35DEB9A044BD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756A-C9DC-498D-9F9F-BDEE75D329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B9EF-2E9D-4260-8C91-400E8673761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2BCC-EA22-493A-AA14-113434EE1C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9A83-C40C-414C-8926-87E64D4766C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521F-FE57-4759-BBC1-446A9F8E50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DBA9-57DB-4B32-AE9D-EF93E7BD2F6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20AC-DC78-4F1E-BAE6-943B45125D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ACBD-E13E-4D04-A940-C62A877F951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F702-0B6A-4C00-BEBF-379E5ECAB6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03C9-9137-481A-8709-E5EB36A180E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D344-498E-4511-9E6A-B4F0A0260D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82EC-483A-408C-A6FD-61CB88E8BD5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2AFD-5A62-4EAE-B7C1-F6904F63F4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ozlovaklara@csz.cz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DA28-C1A3-4569-B892-77700999C99F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C1D9-B350-4ACF-8832-B564FD047EF9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7631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CZ.1.04/3.4.04/26.00335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547280" y="4581360"/>
            <a:ext cx="60469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Klára Čmolíková Coz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Arial"/>
              </a:rPr>
              <a:t>Český svaz ž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2400-4542-4A30-A5B3-E230327C2217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CBD4-845A-4D6C-A7AB-3063B7480D1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Díky za Vaši pozornost.</a:t>
            </a:r>
            <a:br>
              <a:rPr sz="4800"/>
            </a:b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Prostor pro dotaz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050560" y="4066920"/>
            <a:ext cx="604548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zlovaklara@csz.cz</a:t>
            </a: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162C-1EEB-42D7-9DAD-80B9331C19B8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5C70-3915-4146-97B0-1FF807AA19C7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77929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ktura prezent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í se na genderovou lini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ení projektů ČSŽ a jejich hlavních cíl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515B-43DD-444E-871C-F24104547BA3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Genderová rovnost v projekte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amotné tvoření výzev obsahuje či neobsahuje téma (vědomě či nevědomě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ční tým a 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é zaměření (zvyšování povědomí o rovnos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ímé zaměření (zaměření se na rizikové skupiny a jejich posilován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í vadí či nevadí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y ženské skupin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žský prvek a genderové stereoty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D836-A5BC-4F81-8D85-9A658A9C4AC2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335C-8CA9-4873-9EC8-B4CCFC359F4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80438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rojekty ČSŽ pro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žen při vstupu na trh práce a odstraňování bariér – Středočeský kra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Z.1.04/3.4.04/26.003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genderovou lin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posílit dovednosti na trhu práce CZ.1.04/3.3.05/31.002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znevýhodnění na základě věk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9CE3-3AA9-4E3D-9742-80FD5B79D3E4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683D-4ADB-457E-A004-97D057A5891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ová skupina a její specif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aměstnané ženy, registrované na ú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eny (muži), pečující o dítě do 15 let vě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ové aktivity pro cílovou skupi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ítačové kurzy (základní, nadstavb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tví (sociální, právní, psychologické, kariér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á genderová rov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kendové školení aktivistek v prorodinné poli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até stoly se zastupiteli a zastupitelk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Zaměření se na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1125000"/>
            <a:ext cx="40402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áno projektov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j. aktivity jsou poskytovány ve výjezdové formě (např. v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lad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Mla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oleslav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Berou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br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le i v rámci Informačního a poradenského centra v Praze (poradenské a počítačové místnosti, zázemí projektu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9400" y="21463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Zástupný symbol pro zápatí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6. 6. 2011 Prag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Zástupný symbol pro číslo snímku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4ACA-549C-44D7-857B-713482F4921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rcRect l="15583" t="32889" r="36750" b="4591"/>
          <a:stretch/>
        </p:blipFill>
        <p:spPr>
          <a:xfrm>
            <a:off x="3995640" y="1341360"/>
            <a:ext cx="5148360" cy="532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C441-0C60-4321-9FF9-ED629FB7BAF0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amě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1700280"/>
            <a:ext cx="8486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ženy, genderově senzitiv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skupinky, podpora vytvoření podpůrné skupiny, individuální přís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lně si být vědomé genderových stereotypů a předsudků, nepodporovat je naopak proti nim bojovat a zvědomovat je i uživatelk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m cílem je posílení vlastních schopností uživatelek k překonání období nezaměstna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Zástupný symbol pro zápatí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Zástupný symbol pro číslo snímku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716B-F48F-4F9A-8407-9F2B4F45E25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F2C5-2F09-4096-A150-945FEDD2D46A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0097-A288-465E-8E7D-CA6615A10EF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5640" y="107784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Náš příst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915920"/>
            <a:ext cx="819972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ividuální přístup nabízející adekvátní pomoc vzhledem ke konkrétní situaci uživatelky (včetně individuálního poradenství a vedení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ilování uživatelek ve schopnosti odhalit různé druhy diskriminace a náležitě se proti nim bránit (včetně možnosti právního poradenství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kytnout znalosti a dovednosti k tomu, aby byly schopné uspět na trhu prá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CV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četně průvodního dopis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motivační dop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komunikovat s potenciálním zaměstnavatelem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se připravit na přijímací řízen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338-E809-47EE-90D0-F512A7209BE5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2E74-3234-4832-AABC-B88AA40A2971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15640" y="1190160"/>
            <a:ext cx="77929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 legislativní zakotvení diskriminace stále existuje ve všech oblastech života, včetně zaměstnán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iskriminace je široce přijímána – jako prostý fakt, koncept diskriminace je brán za něco „doveženého“ a není pro nás téma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diskriminace se často nebrání, ani soudně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trach z výsledku a budoucnosti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si nejsou jisté, jaký může mít případný soudní spor výsledek, soudní spory jsou náročné (časově, finančně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mají dostatečné informace (včetně průběhu a možností pomoci)</a:t>
            </a:r>
            <a:r>
              <a:rPr b="0" lang="cs-CZ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čná informovanost o problematice je i v širší společnosti, bohužel i mezi profesionály a profesionálka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utnost respektovat rozhodnutí uživatelk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7:06:48Z</dcterms:created>
  <dc:creator>Klára Cozlová</dc:creator>
  <dc:description/>
  <dc:language>en-US</dc:language>
  <cp:lastModifiedBy>prednaska</cp:lastModifiedBy>
  <dcterms:modified xsi:type="dcterms:W3CDTF">2011-07-27T08:04:11Z</dcterms:modified>
  <cp:revision>49</cp:revision>
  <dc:subject/>
  <dc:title>The position of seniors and people over 50 in Czech republic and advocacy services for discrimination victims</dc:title>
</cp:coreProperties>
</file>